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3EA-936E-4496-9954-5F40DC54D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we have found to be true in our school (new to me this year). We are in our first year of “sanctions” with AYP. I definitely feel the work I have done with using reading strategies in the media center will help me contribute to our continued school improvement. (Hopefully that’s why they hired 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readers have had it modeled for them from birth and know what conversations with text look and sound like. When this is missing, teachers and librarians must fill in the gap. (</a:t>
            </a:r>
            <a:r>
              <a:rPr b="0" lang="en-US" sz="700" spc="-1" strike="noStrike">
                <a:solidFill>
                  <a:srgbClr val="000000"/>
                </a:solidFill>
                <a:latin typeface="Arial"/>
              </a:rPr>
              <a:t>Grimes, p. viii) This book is an excellent “how-to” manual for teaching reading comprehension strategies in school and public libraries.</a:t>
            </a: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y notes can go right on the pages of the boo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08ABB-2C83-4E31-A934-786246912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8D11-A164-4D72-BB1B-00BC5EE4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99428-C483-4177-AD0D-9CB19166C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2567F-F171-4A8B-9789-723FBB13F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A96F0-6314-426A-89C6-5BF781096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B397A-34C9-4E29-A6AA-3F90A0968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1E09A-ECA2-4B6C-94EE-1CE925DAA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D275B-6B22-4933-B045-B9B94B1D6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4B2F1-9E17-4D50-B866-8EBFB10A7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6040E-CB06-4363-BFF8-C11A58805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87C96-887F-4538-8069-BB87C79FE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3F92-85B1-47B8-8FBC-EBFB1E1A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5130-4C64-45E1-83C4-4D6C4EF5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C2D67-B8F8-4E58-B8E4-D075F9D3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E559C-B0F4-43EA-A2A7-7A45FF2FA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519D3-8C7E-4699-95CB-B6E0DBEA9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EF6A6-B1C0-4AE0-97E8-151AA847A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3B57-FFA4-4F0E-988C-422D295DB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E9AF1-EAA9-4713-9ED2-663C7312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0EF8-707B-4E25-8FE4-06A6479F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8962-CADA-467B-898A-F2FD551C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EE32-F0E8-4EF8-829C-BD88FB0B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C4D9-DB85-49EB-9AD5-02283F6E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F342-8AC3-42BD-AEF9-480F2C421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D714-49CA-4DB0-B6E0-194F647B3EF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AFAF-52AA-4D5A-A468-25FA360523F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king-reading-our-business.wikispaces.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1599840"/>
            <a:ext cx="7373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aking Connections: Media Specialists Teach Reading Strategies</a:t>
            </a:r>
            <a:endParaRPr b="0" lang="en-US" sz="3200" spc="-1" strike="noStrike">
              <a:solidFill>
                <a:srgbClr val="000000"/>
              </a:solidFill>
              <a:latin typeface="Century Gothic"/>
            </a:endParaRPr>
          </a:p>
        </p:txBody>
      </p:sp>
      <p:sp>
        <p:nvSpPr>
          <p:cNvPr id="90" name="PlaceHolder 2"/>
          <p:cNvSpPr>
            <a:spLocks noGrp="1"/>
          </p:cNvSpPr>
          <p:nvPr>
            <p:ph type="subTitle"/>
          </p:nvPr>
        </p:nvSpPr>
        <p:spPr>
          <a:xfrm>
            <a:off x="1279080" y="2819520"/>
            <a:ext cx="5256360" cy="16761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ly Kimmes</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sseo LMS PLC</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ctober 3, 2008</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MO Fall Conferenc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sualizing</a:t>
            </a:r>
            <a:endParaRPr b="0" lang="en-US" sz="3600" spc="-1" strike="noStrike">
              <a:solidFill>
                <a:srgbClr val="000000"/>
              </a:solidFill>
              <a:latin typeface="Century Gothic"/>
            </a:endParaRPr>
          </a:p>
        </p:txBody>
      </p:sp>
      <p:sp>
        <p:nvSpPr>
          <p:cNvPr id="10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The mental imagery that we experience while reading, either spontaneously or induced by instruction, is now known to have powerful effects on comprehension, memory, and appreciation for text.”</a:t>
            </a:r>
            <a:endParaRPr b="0" lang="en-US" sz="2800" spc="-1" strike="noStrike">
              <a:solidFill>
                <a:srgbClr val="000000"/>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rimes, p.3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sualizing</a:t>
            </a:r>
            <a:endParaRPr b="0" lang="en-US" sz="3600" spc="-1" strike="noStrike">
              <a:solidFill>
                <a:srgbClr val="000000"/>
              </a:solidFill>
              <a:latin typeface="Century Gothic"/>
            </a:endParaRPr>
          </a:p>
        </p:txBody>
      </p:sp>
      <p:sp>
        <p:nvSpPr>
          <p:cNvPr id="11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mental pictures,” smells, tastes, feeling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movie in your min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ketch a picture of what you see in your mind</a:t>
            </a:r>
            <a:endParaRPr b="0" lang="en-US" sz="2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Never as good on paper – that’s OK</a:t>
            </a:r>
            <a:endParaRPr b="0" lang="en-US" sz="16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rally explain the illustr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ctivities</a:t>
            </a: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aper chain of “connecti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e cuts of a key element of the stor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rawing pag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mark</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ikispaces</a:t>
            </a:r>
            <a:endParaRPr b="0" lang="en-US" sz="3600" spc="-1" strike="noStrike">
              <a:solidFill>
                <a:srgbClr val="000000"/>
              </a:solidFill>
              <a:latin typeface="Century Gothic"/>
            </a:endParaRPr>
          </a:p>
        </p:txBody>
      </p:sp>
      <p:sp>
        <p:nvSpPr>
          <p:cNvPr id="11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making-reading-our-business.wikispaces.com/</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ally Kimmes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MS, Fair Oaks Elementary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sseo Area Schools,  District 279</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763-549-2351</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kimmess@district279.or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entury Gothic"/>
              </a:rPr>
              <a:t>Reading Is Our Business</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Libraries Can Foster Reading Comprehensi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y Sharon Grime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cus of our PLC work last school yea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Direct instruction has enabled many of our students to become proficient decoders and develop print awareness; they can read the words and turn the pages, but they do not understand what they read.”</a:t>
            </a:r>
            <a:endParaRPr b="0" lang="en-US" sz="28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viii</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We know that proficient readers think about reading; they have an ongoing dialogue with the text before they begin reading, during reading, and after reading. This dialogue with the text is a learned behavior.”</a:t>
            </a:r>
            <a:endParaRPr b="0" lang="en-US" sz="28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viii</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oints to Ponder</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make explicit and active what good readers do subconsciously and internally.”</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del</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k students what they observed</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practice (whole group instructio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Practice (after a time) </a:t>
            </a:r>
            <a:endParaRPr b="0" lang="en-US" sz="2400" spc="-1" strike="noStrike">
              <a:solidFill>
                <a:srgbClr val="000000"/>
              </a:solidFill>
              <a:latin typeface="Century Gothic"/>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rimes, p. 5</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7" dur="500"/>
                                        <p:tgtEl>
                                          <p:spTgt spid="9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2" dur="500"/>
                                        <p:tgtEl>
                                          <p:spTgt spid="9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7" dur="500"/>
                                        <p:tgtEl>
                                          <p:spTgt spid="9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2" dur="500"/>
                                        <p:tgtEl>
                                          <p:spTgt spid="98">
                                            <p:txEl>
                                              <p:pRg st="4" end="4"/>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25"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tudents reflect on these ???s -</a:t>
            </a:r>
            <a:endParaRPr b="0" lang="en-US" sz="3600" spc="-1" strike="noStrike">
              <a:solidFill>
                <a:srgbClr val="000000"/>
              </a:solidFill>
              <a:latin typeface="Century Gothic"/>
            </a:endParaRPr>
          </a:p>
        </p:txBody>
      </p:sp>
      <p:sp>
        <p:nvSpPr>
          <p:cNvPr id="100" name="PlaceHolder 2"/>
          <p:cNvSpPr>
            <a:spLocks noGrp="1"/>
          </p:cNvSpPr>
          <p:nvPr>
            <p:ph/>
          </p:nvPr>
        </p:nvSpPr>
        <p:spPr>
          <a:xfrm>
            <a:off x="1294920" y="175248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good readers do?</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they look lik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y do they rea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does use of this strategy make you a better rea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2" dur="500"/>
                                        <p:tgtEl>
                                          <p:spTgt spid="10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7" dur="500"/>
                                        <p:tgtEl>
                                          <p:spTgt spid="100">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2" dur="500"/>
                                        <p:tgtEl>
                                          <p:spTgt spid="100">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7" dur="500"/>
                                        <p:tgtEl>
                                          <p:spTgt spid="100">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2" dur="500"/>
                                        <p:tgtEl>
                                          <p:spTgt spid="10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57"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at does this look like?</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ll students that you will be modeling a strateg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e the strateg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 visuals as needed</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plain the research basi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k students to observe as you model</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sticky notes or other device to recor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685440"/>
            <a:ext cx="73753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does “Connecting” look like?</a:t>
            </a:r>
            <a:endParaRPr b="0" lang="en-US" sz="3200" spc="-1" strike="noStrike">
              <a:solidFill>
                <a:srgbClr val="000000"/>
              </a:solidFill>
              <a:latin typeface="Century Gothic"/>
            </a:endParaRPr>
          </a:p>
        </p:txBody>
      </p:sp>
      <p:sp>
        <p:nvSpPr>
          <p:cNvPr id="10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ok for connections before you begin</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itle</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ver illustratio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te differences as well</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f check</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d and think aloud through the stor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cord student observations as a checklist</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nnecting Strategies</a:t>
            </a:r>
            <a:endParaRPr b="0" lang="en-US" sz="3600" spc="-1" strike="noStrike">
              <a:solidFill>
                <a:srgbClr val="000000"/>
              </a:solidFill>
              <a:latin typeface="Century Gothic"/>
            </a:endParaRPr>
          </a:p>
        </p:txBody>
      </p:sp>
      <p:sp>
        <p:nvSpPr>
          <p:cNvPr id="106" name="PlaceHolder 2"/>
          <p:cNvSpPr>
            <a:spLocks noGrp="1"/>
          </p:cNvSpPr>
          <p:nvPr>
            <p:ph/>
          </p:nvPr>
        </p:nvSpPr>
        <p:spPr>
          <a:xfrm>
            <a:off x="1279080" y="1447920"/>
            <a:ext cx="5257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Self</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racter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tting</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Text</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nre characteristic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on themes in literature</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xt to World</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al world problems/event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background knowledg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03:48:01Z</dcterms:created>
  <dc:creator>Sally Kimmes</dc:creator>
  <dc:description/>
  <cp:keywords/>
  <dc:language>en-US</dc:language>
  <cp:lastModifiedBy>Sally Kimmes</cp:lastModifiedBy>
  <dcterms:modified xsi:type="dcterms:W3CDTF">2008-10-03T05:24:37Z</dcterms:modified>
  <cp:revision>12</cp:revision>
  <dc:subject/>
  <dc:title>Reading Comprehension Lessons in the Media Cen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